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C8D-CEC5-4A87-912B-7454E8DA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98C-0424-49F3-8CFC-9A1C37A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FC6-DE1D-42EA-8D26-8CADB8C3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0E7-DEEB-4710-876A-3BACBAA3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52E-4E7B-4B22-B010-A25D8369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50B-2A73-42B4-AFBE-02691834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0E9-1AE1-4670-9543-1178DE5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7ABE-43EA-4EC9-B5A7-A5248E5A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A347-1927-4045-8E99-783CF79C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3D4-4050-444F-8A18-67286FA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64DD-E531-4421-8C7C-FB81685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C9B-28C8-4230-A54C-F94E558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CD2C-FC95-463F-A6EF-18C799D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2E77-5165-4F70-B908-55D9222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1BA9-0B73-44B5-82FA-96AB51DE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A8E-5115-43C6-ABF0-7E38CF09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BEF6-1E28-47EB-A040-400A0941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72F-FC49-4A0C-9267-780A6973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9EC-D093-4C49-B3B7-DC1D0A5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802-BB75-4D1F-943C-727EFC77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4DF-1A5B-468B-8951-B20DD90E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79D-9EED-449F-BDA8-3E91578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956-CC88-4F9F-BF36-3798BE1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696-A4A5-4FDF-9CAF-2677C344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E9FF-AC68-430A-852B-FE6CF380BC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F94-F724-42DB-A8CD-A3512643D1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7429680" cy="4295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5400" spc="-1" strike="noStrike">
                <a:solidFill>
                  <a:srgbClr val="000099"/>
                </a:solidFill>
                <a:latin typeface="Comic Sans MS"/>
              </a:rPr>
              <a:t>Т</a:t>
            </a:r>
            <a:r>
              <a:rPr b="0" lang="ru-RU" sz="5400" spc="-1" strike="noStrike">
                <a:solidFill>
                  <a:srgbClr val="000099"/>
                </a:solidFill>
                <a:latin typeface="Comic Sans MS"/>
              </a:rPr>
              <a:t>ригонометрические функции</a:t>
            </a:r>
            <a:br>
              <a:rPr sz="54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 проекта:   Савинов А.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ководитель:  Торопова Е.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1285920"/>
            <a:ext cx="68407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5400" spc="-1" strike="noStrike">
                <a:solidFill>
                  <a:srgbClr val="0070c0"/>
                </a:solidFill>
                <a:latin typeface="Comic Sans MS"/>
              </a:rPr>
              <a:t>Проблемный вопрос: </a:t>
            </a:r>
            <a:br>
              <a:rPr sz="5400"/>
            </a:br>
            <a:br>
              <a:rPr sz="5400"/>
            </a:br>
            <a:r>
              <a:rPr b="0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строить графики тригонометрических и обратных функций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яснить как строить строится график функции С</a:t>
            </a:r>
            <a:r>
              <a:rPr b="0" lang="en-US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s(f(x))=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000080" y="428760"/>
            <a:ext cx="7572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Ход рабо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собой представляет функц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областью определения и областью зна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пример построения одной из функ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учебник Алгебра 8 класс. Макарычев Ю. 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5000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Y=Cos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x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2090880"/>
            <a:ext cx="621036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13840"/>
            <a:ext cx="687060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Вывод: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тобы построить график функции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Y=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os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(x))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2571840"/>
            <a:ext cx="80247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троить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x)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 промежут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;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разить график относительно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ебра в таблицах. 7-11 кл.:Л.И.Звавич, А.Р.Рязановский.-М.:Дрофа 2004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. М. Гельфанд, С.М.Львовский, А. Л. То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Тригонометрия. М.: МЦНМО, 2003. — 200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18:38Z</dcterms:created>
  <dc:creator>илья</dc:creator>
  <dc:description/>
  <dc:language>en-US</dc:language>
  <cp:lastModifiedBy>илья</cp:lastModifiedBy>
  <dcterms:modified xsi:type="dcterms:W3CDTF">2010-05-30T13:36:20Z</dcterms:modified>
  <cp:revision>18</cp:revision>
  <dc:subject/>
  <dc:title>Методы решения тригонометрических уравнений</dc:title>
</cp:coreProperties>
</file>